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49C-E705-42E3-9B22-F2385494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141-973D-4A0A-9617-4863FAD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2E5-3DF4-42E0-8B33-CE55136E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6E2-2ED8-4D89-9402-F5520367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F2D-D078-429B-8675-438AF9D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F52-A291-49D6-8975-C7466A7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3BF-02FF-4CAC-A039-1AD30FC1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EE4-29DC-4E21-B906-5766E8B1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B2D-E9EF-4F58-B5F7-3250E6F2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834-D45D-4AAF-939D-5E75958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823-005A-4B7C-BEBC-2929E4C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7BE-3479-43EE-A838-C03FF70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C52-A55B-4E69-91A7-D2575EA14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4 Bohu máme vďaku vzdá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d nami strážne bd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e v svojom svät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il svetu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za to máme vz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s nami zhovár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svojou v Písme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raj nám otvá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 dáva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zvesť jeho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prebúdza v srdci naš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pieseň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máme zvest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m myseľ zjasň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o, čo nám dosiaľ zj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s láskou zj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ci máme ďak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57:42Z</dcterms:modified>
  <cp:revision>20</cp:revision>
  <dc:subject/>
  <dc:title>Je veľký náš Pán, on slávy je Kráľ Nech do všetkých strán  spev vrúcnych znie chvál.</dc:title>
</cp:coreProperties>
</file>